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20.png" ContentType="image/png"/>
  <Override PartName="/ppt/media/image18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C41-2260-4B76-B3E7-FF41A7AF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6E2-CF8A-4ED2-8FFB-1C2B9B15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29C-4449-4D01-9321-1A3E1B14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8A8-CDD8-4F25-A474-8CDCF184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F56D-8D89-4B35-AAFC-D864D4F4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C0DC-F3BC-4886-9C4F-B68FE83A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DACB-C6E2-4E79-9FE4-732C9027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1EB7-B8CC-460F-B46F-7AB96C09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4492-9481-4F15-BB03-F87965F2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7738-30CA-4F29-8C1A-42FB1E88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F484-55DB-4E4D-9FA4-FED10D78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734-E6B0-4F69-A8D1-A36C98C9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2AA1-07A6-409F-B4D6-242C5911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4A4E-A401-4CDF-92B8-FC9BD825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504F-FA4F-461E-9DA3-CC1153C6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CE30-5F3C-4E57-A5C8-FFA643DD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33CF-6BEA-4881-B597-56D45A84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D06-849A-40AD-8AD6-EE4229FA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912-C29E-4774-ABEE-4B0EED62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C89-31DB-4920-8679-704AB5D4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1A1-820C-4D25-884C-99020686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6E1-FDE9-4D15-80E9-4AECEFF7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80A-ECC8-4A00-885F-737A5E3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5AE-8946-4581-BB12-FA94F797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0F09-F0B8-4D43-AEED-291A6548D72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B3F4-E8EC-4AA2-9191-973C2312749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onathan Javier Martinez Vazquez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0067912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. Evelyn Lug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glish 12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1060560" y="2084400"/>
            <a:ext cx="7175520" cy="221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Content Placeholder 3" descr="300px-Levi-strauss_260.jpg"/>
          <p:cNvPicPr/>
          <p:nvPr/>
        </p:nvPicPr>
        <p:blipFill>
          <a:blip r:embed="rId2"/>
          <a:stretch/>
        </p:blipFill>
        <p:spPr>
          <a:xfrm>
            <a:off x="533520" y="1523880"/>
            <a:ext cx="2716200" cy="1801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35120" y="335268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Anthropologist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aude Lévi-Strau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250px-Lacan2.jpg"/>
          <p:cNvPicPr/>
          <p:nvPr/>
        </p:nvPicPr>
        <p:blipFill>
          <a:blip r:embed="rId3"/>
          <a:stretch/>
        </p:blipFill>
        <p:spPr>
          <a:xfrm>
            <a:off x="5334120" y="1523880"/>
            <a:ext cx="2598480" cy="1901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5526720" y="342900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psychoanalyst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Jacques Lac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60920" y="6172200"/>
            <a:ext cx="34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philosopher and historian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ichel Fouc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442120" y="6211800"/>
            <a:ext cx="28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Marxist philosopher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ouis Althus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0" descr="200px-Foucault5.jpg"/>
          <p:cNvPicPr/>
          <p:nvPr/>
        </p:nvPicPr>
        <p:blipFill>
          <a:blip r:embed="rId4"/>
          <a:stretch/>
        </p:blipFill>
        <p:spPr>
          <a:xfrm>
            <a:off x="1371600" y="4191120"/>
            <a:ext cx="1600200" cy="1968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225px-Althusser.jpg"/>
          <p:cNvPicPr/>
          <p:nvPr/>
        </p:nvPicPr>
        <p:blipFill>
          <a:blip r:embed="rId5"/>
          <a:stretch/>
        </p:blipFill>
        <p:spPr>
          <a:xfrm>
            <a:off x="5715000" y="4114800"/>
            <a:ext cx="188280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423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throp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study of humanity. It has origins in the natural sciences, the humanities, and the social scienc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s the study of socie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sych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s the science of mind and behavior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terary critic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s the study, evaluation, and interpretation of literatur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chite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lanning evolved around the middle of the 20th centur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76760" indent="-217080" algn="just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 thruBlk="true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en.wikipedia.org/wiki/Structural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en.wikipedia.org/wiki/Ferdinand_de_Sauss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courses.nus.edu.sg/course/elljwp/structuralism.ht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ut thruBlk="true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90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530280" y="285840"/>
            <a:ext cx="8242200" cy="1323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tructuralism is the name that is given to a wide range of discourses that studies underlying structures of signification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 advTm="0">
    <p:wheel spokes="2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occurs wherever there is a meaningful event or in the practice of some meaningful ac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gnifying practi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aningful even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riting or reading a text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getting marri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aving a discussion over jersey shor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y document or any exchange that can be document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strips dir="r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l texts, all meaningful events, and all signifying practices can be analyzed for their underlying structur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Rounded Rectangle 11" descr=""/>
          <p:cNvPicPr/>
          <p:nvPr/>
        </p:nvPicPr>
        <p:blipFill>
          <a:blip r:embed="rId1"/>
          <a:stretch/>
        </p:blipFill>
        <p:spPr>
          <a:xfrm>
            <a:off x="5851440" y="2571840"/>
            <a:ext cx="2854440" cy="1104840"/>
          </a:xfrm>
          <a:prstGeom prst="rect">
            <a:avLst/>
          </a:prstGeom>
          <a:ln w="0">
            <a:noFill/>
          </a:ln>
        </p:spPr>
      </p:pic>
      <p:pic>
        <p:nvPicPr>
          <p:cNvPr id="90" name="Rounded Rectangle 12" descr=""/>
          <p:cNvPicPr/>
          <p:nvPr/>
        </p:nvPicPr>
        <p:blipFill>
          <a:blip r:embed="rId2"/>
          <a:stretch/>
        </p:blipFill>
        <p:spPr>
          <a:xfrm>
            <a:off x="5851440" y="3790800"/>
            <a:ext cx="2854440" cy="1182960"/>
          </a:xfrm>
          <a:prstGeom prst="rect">
            <a:avLst/>
          </a:prstGeom>
          <a:ln w="0">
            <a:noFill/>
          </a:ln>
        </p:spPr>
      </p:pic>
      <p:pic>
        <p:nvPicPr>
          <p:cNvPr id="91" name="Rounded Rectangle 13" descr=""/>
          <p:cNvPicPr/>
          <p:nvPr/>
        </p:nvPicPr>
        <p:blipFill>
          <a:blip r:embed="rId3"/>
          <a:stretch/>
        </p:blipFill>
        <p:spPr>
          <a:xfrm>
            <a:off x="5924520" y="5162400"/>
            <a:ext cx="2859120" cy="1105200"/>
          </a:xfrm>
          <a:prstGeom prst="rect">
            <a:avLst/>
          </a:prstGeom>
          <a:ln w="0">
            <a:noFill/>
          </a:ln>
        </p:spPr>
      </p:pic>
      <p:pic>
        <p:nvPicPr>
          <p:cNvPr id="92" name="Rounded Rectangle 14" descr=""/>
          <p:cNvPicPr/>
          <p:nvPr/>
        </p:nvPicPr>
        <p:blipFill>
          <a:blip r:embed="rId4"/>
          <a:stretch/>
        </p:blipFill>
        <p:spPr>
          <a:xfrm>
            <a:off x="2419200" y="3790800"/>
            <a:ext cx="2934000" cy="1335240"/>
          </a:xfrm>
          <a:prstGeom prst="rect">
            <a:avLst/>
          </a:prstGeom>
          <a:ln w="0">
            <a:noFill/>
          </a:ln>
        </p:spPr>
      </p:pic>
      <p:pic>
        <p:nvPicPr>
          <p:cNvPr id="93" name="Rounded Rectangle 15" descr=""/>
          <p:cNvPicPr/>
          <p:nvPr/>
        </p:nvPicPr>
        <p:blipFill>
          <a:blip r:embed="rId5"/>
          <a:stretch/>
        </p:blipFill>
        <p:spPr>
          <a:xfrm>
            <a:off x="285840" y="3333600"/>
            <a:ext cx="1944720" cy="2249640"/>
          </a:xfrm>
          <a:prstGeom prst="rect">
            <a:avLst/>
          </a:prstGeom>
          <a:ln w="0">
            <a:noFill/>
          </a:ln>
        </p:spPr>
      </p:pic>
      <p:sp>
        <p:nvSpPr>
          <p:cNvPr id="94" name="Straight Connector 17"/>
          <p:cNvSpPr/>
          <p:nvPr/>
        </p:nvSpPr>
        <p:spPr>
          <a:xfrm flipH="1">
            <a:off x="5257440" y="3123360"/>
            <a:ext cx="609480" cy="838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traight Connector 19"/>
          <p:cNvSpPr/>
          <p:nvPr/>
        </p:nvSpPr>
        <p:spPr>
          <a:xfrm flipH="1">
            <a:off x="5105520" y="4381560"/>
            <a:ext cx="761760" cy="3816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traight Connector 21"/>
          <p:cNvSpPr/>
          <p:nvPr/>
        </p:nvSpPr>
        <p:spPr>
          <a:xfrm flipH="1" flipV="1">
            <a:off x="5257440" y="5028840"/>
            <a:ext cx="685800" cy="685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traight Connector 25"/>
          <p:cNvSpPr/>
          <p:nvPr/>
        </p:nvSpPr>
        <p:spPr>
          <a:xfrm flipH="1">
            <a:off x="2133720" y="4457160"/>
            <a:ext cx="304560" cy="37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228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26 November 1857 – 22 February 1913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wiss linguist, one of the fathers of 20th-century linguistic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Developed a branch of linguistics called "Structural Linguistic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ory was still at a developmental stag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reconstruction of his lecture courses can be found in 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The Course in General Linguistic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analysis focuses not on the 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us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 of language, but rather on the underlying system of language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is approach examines how the elements of language relate to each other in the present, synchronically rather than diachronically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2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5" descr=""/>
          <p:cNvPicPr/>
          <p:nvPr/>
        </p:nvPicPr>
        <p:blipFill>
          <a:blip r:embed="rId1"/>
          <a:stretch/>
        </p:blipFill>
        <p:spPr>
          <a:xfrm>
            <a:off x="438120" y="298440"/>
            <a:ext cx="871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3" descr="230px-Ferdinand_de_Saussure_by_Jullien.png"/>
          <p:cNvPicPr/>
          <p:nvPr/>
        </p:nvPicPr>
        <p:blipFill>
          <a:blip r:embed="rId2"/>
          <a:stretch/>
        </p:blipFill>
        <p:spPr>
          <a:xfrm>
            <a:off x="5791320" y="1981080"/>
            <a:ext cx="2817720" cy="415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4.bp.blogspot.com/_p4chqxzKRkE/SWE7BIvQuMI/AAAAAAAAAME/8-C3GDc3nIA/s400/Ferdinand+de+Saussure+-+Curso+de+Ling%C3%BCistica+General.jpg"/>
          <p:cNvPicPr/>
          <p:nvPr/>
        </p:nvPicPr>
        <p:blipFill>
          <a:blip r:embed="rId3"/>
          <a:stretch/>
        </p:blipFill>
        <p:spPr>
          <a:xfrm>
            <a:off x="533520" y="2057400"/>
            <a:ext cx="2670120" cy="4075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achronically (Historical) linguistics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tudy of language chang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just">
              <a:spcBef>
                <a:spcPts val="601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 describe the history of speech commun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just">
              <a:spcBef>
                <a:spcPts val="601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 study the history of word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chronicall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 or relating to the study of phenomena, such as linguistic features, or of events of a particular time, without reference to their historical contex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291960" y="176040"/>
            <a:ext cx="7108920" cy="1202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GNIFIER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4304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GNIFIED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9047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you se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a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u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ste or smell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udible and visible sign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erbal sign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7960" y="1981080"/>
            <a:ext cx="404172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mental picture of whatev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Tree"/>
          <p:cNvSpPr/>
          <p:nvPr/>
        </p:nvSpPr>
        <p:spPr>
          <a:xfrm>
            <a:off x="1523880" y="5105520"/>
            <a:ext cx="1378080" cy="1193760"/>
          </a:xfrm>
          <a:custGeom>
            <a:avLst/>
            <a:gdLst>
              <a:gd name="textAreaLeft" fmla="*/ 48240 w 1378080"/>
              <a:gd name="textAreaRight" fmla="*/ 1344240 w 1378080"/>
              <a:gd name="textAreaTop" fmla="*/ 1241280 h 1193760"/>
              <a:gd name="textAreaBottom" fmla="*/ 1563480 h 11937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C:\Users\jona121\AppData\Local\Microsoft\Windows\Temporary Internet Files\Content.IE5\V62UXIX0\MC900231785[1].wmf"/>
          <p:cNvPicPr/>
          <p:nvPr/>
        </p:nvPicPr>
        <p:blipFill>
          <a:blip r:embed="rId2"/>
          <a:stretch/>
        </p:blipFill>
        <p:spPr>
          <a:xfrm>
            <a:off x="5105520" y="5021280"/>
            <a:ext cx="2890800" cy="1836720"/>
          </a:xfrm>
          <a:prstGeom prst="rect">
            <a:avLst/>
          </a:prstGeom>
          <a:ln w="0">
            <a:noFill/>
          </a:ln>
        </p:spPr>
      </p:pic>
      <p:sp>
        <p:nvSpPr>
          <p:cNvPr id="112" name="Cloud Callout 9"/>
          <p:cNvSpPr/>
          <p:nvPr/>
        </p:nvSpPr>
        <p:spPr>
          <a:xfrm rot="1013400">
            <a:off x="7232760" y="3994200"/>
            <a:ext cx="1447560" cy="1219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Cloud Callout 10"/>
          <p:cNvSpPr/>
          <p:nvPr/>
        </p:nvSpPr>
        <p:spPr>
          <a:xfrm rot="19650000">
            <a:off x="4696920" y="3774960"/>
            <a:ext cx="1447920" cy="1219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Cloud Callout 11"/>
          <p:cNvSpPr/>
          <p:nvPr/>
        </p:nvSpPr>
        <p:spPr>
          <a:xfrm>
            <a:off x="6019920" y="3505320"/>
            <a:ext cx="1447560" cy="1218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ree"/>
          <p:cNvSpPr/>
          <p:nvPr/>
        </p:nvSpPr>
        <p:spPr>
          <a:xfrm>
            <a:off x="4952880" y="3886200"/>
            <a:ext cx="920880" cy="736560"/>
          </a:xfrm>
          <a:custGeom>
            <a:avLst/>
            <a:gdLst>
              <a:gd name="textAreaLeft" fmla="*/ 32400 w 920880"/>
              <a:gd name="textAreaRight" fmla="*/ 898560 w 920880"/>
              <a:gd name="textAreaTop" fmla="*/ 765720 h 736560"/>
              <a:gd name="textAreaBottom" fmla="*/ 964800 h 7365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C:\Program Files (x86)\Microsoft Office\MEDIA\CAGCAT10\j0212957.wmf"/>
          <p:cNvPicPr/>
          <p:nvPr/>
        </p:nvPicPr>
        <p:blipFill>
          <a:blip r:embed="rId3"/>
          <a:stretch/>
        </p:blipFill>
        <p:spPr>
          <a:xfrm>
            <a:off x="6248520" y="3809880"/>
            <a:ext cx="915840" cy="57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jona121\AppData\Local\Microsoft\Windows\Temporary Internet Files\Content.IE5\JX328SK6\MC900438020[1].png"/>
          <p:cNvPicPr/>
          <p:nvPr/>
        </p:nvPicPr>
        <p:blipFill>
          <a:blip r:embed="rId4"/>
          <a:stretch/>
        </p:blipFill>
        <p:spPr>
          <a:xfrm>
            <a:off x="7162920" y="3809880"/>
            <a:ext cx="155412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5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4" descr="http://upload.wikimedia.org/wikipedia/commons/thumb/9/98/PROCESO_DEL_HABLA.jpg/800px-PROCESO_DEL_HABLA.jpg"/>
          <p:cNvPicPr/>
          <p:nvPr/>
        </p:nvPicPr>
        <p:blipFill>
          <a:blip r:embed="rId1"/>
          <a:stretch/>
        </p:blipFill>
        <p:spPr>
          <a:xfrm>
            <a:off x="0" y="1438200"/>
            <a:ext cx="9296280" cy="434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22:06:54Z</dcterms:created>
  <dc:creator>jona121</dc:creator>
  <dc:description/>
  <dc:language>en-US</dc:language>
  <cp:lastModifiedBy>jona121</cp:lastModifiedBy>
  <dcterms:modified xsi:type="dcterms:W3CDTF">2011-03-10T17:20:52Z</dcterms:modified>
  <cp:revision>34</cp:revision>
  <dc:subject/>
  <dc:title>Slide 1</dc:title>
</cp:coreProperties>
</file>